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A69E-EC9B-4F4D-8915-67D0D061A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7962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2920" y="3988440"/>
            <a:ext cx="7962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BB46-7332-43C2-9970-7846C9A0B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29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35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8E06-4D5F-4ADA-BE94-5B403D206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5360" y="160020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7800" y="160020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2920" y="398844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5360" y="398844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7800" y="398844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3D8D-270E-4E37-B6F3-69B70604BC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2920" y="160020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27D6-4DD1-4CF5-848D-81A3CC09F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AD66-3BED-4E56-9A3A-BCB205920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7B7E-010C-41AC-BE51-B8DC6A227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6C57-DE28-4E99-B30E-D74B9600D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97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B463-7D74-43D1-A9D3-B5B0E8C86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29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7858-F40A-407C-8993-F77D4052D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35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D9B6-3A94-42E6-A313-FB7B288A7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2920" y="3988440"/>
            <a:ext cx="7962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FB56-1D00-4D80-930F-F6A94FF1F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lide 1- </a:t>
            </a:r>
            <a:fld id="{BFEDD8D3-0399-43E4-ABD1-661147ED6924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72920" y="160020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f0c2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f0c2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9756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, 2007, 200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3281040" y="3281400"/>
            <a:ext cx="6858000" cy="295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-3065040" y="3358440"/>
            <a:ext cx="6856200" cy="136440"/>
          </a:xfrm>
          <a:prstGeom prst="rect">
            <a:avLst/>
          </a:prstGeom>
          <a:gradFill rotWithShape="0">
            <a:gsLst>
              <a:gs pos="0">
                <a:srgbClr val="c9c9c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0773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509"/>
                </a:solidFill>
                <a:latin typeface="Arial"/>
              </a:rPr>
              <a:t>Active Learning Lecture Sli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509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9600"/>
            <a:ext cx="472428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509"/>
                </a:solidFill>
                <a:latin typeface="Arial"/>
              </a:rPr>
              <a:t>Elementary Statistic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enth Ed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Triola Statistics Serie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ario F. Tri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727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1:                     Introduction to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8480" y="3233880"/>
            <a:ext cx="2664000" cy="31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05B6-C4AD-4E5B-8F79-AF14DB4654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71760"/>
            <a:ext cx="815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 on a survey are scored with integers 1 thru 5 with 1 representing Strongly Disagree and 5 Strongly Agree.  This is an example of what kind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No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0EDA-BB5C-4F11-B2C4-FBDCCAE399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71760"/>
            <a:ext cx="815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 on a survey are scored with integers 1 thru 5 with 1 representing Strongly Disagree and 5 Strongly Agree.  This is an example of what kind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No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R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4800600"/>
            <a:ext cx="3264120" cy="7621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83C2-F1B7-47B7-A2D6-F1B5BF23EE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46548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large lecture room class of 300 students, a sample of 10 was taken to determine the male/female make up of the class.  Which misuse of statistics does this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erce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ecis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mall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E6B7-9A91-4407-B083-B2992BD22B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46548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large lecture room class of 300 students, a sample of 10 was taken to determine the male/female make up of the class.  Which misuse of statistics does this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Perce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Precis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mall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5356080"/>
            <a:ext cx="3581640" cy="990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E9C7-E914-46D1-AE72-24A936E9A6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53532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a security checkpoint to a government facility, every 10th individual was more thoroughly searched than the others.  What type of sampling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yste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tra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lu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B1D2-7CAE-4722-8EFC-7E8FABF220A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53532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a security checkpoint to a government facility, every 10th individual was more thoroughly searched than the others.  What type of sampling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yste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Stra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Clu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6480" y="2909880"/>
            <a:ext cx="2911680" cy="990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5A1C-CD71-42B2-BC0D-4AE35FFD43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68724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ualty data from the great flu epidemic of 1918 were collected for a study.  This represents what type of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ross-sec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et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Quali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78B0-0C40-4223-B4A5-6423378FA65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68724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ualty data from the great flu epidemic of 1918 were collected for a study.  This represents what type of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Cross-sec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et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P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Quali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440" y="3489480"/>
            <a:ext cx="3581280" cy="99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0BA5-87E1-4D6A-AB7C-5729E2B8B3E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10952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methods for planning studies an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A subcollection of members drawn from a large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18FB-990C-44E8-A5AE-A72329DCFA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10952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methods for planning studies an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A subcollection of members drawn from a large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00" y="3919680"/>
            <a:ext cx="8229600" cy="99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FED4-70A4-45E7-8B0D-D4AA1AD6BD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08108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lf-selected study is a source of bias in which factor of statistical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Source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Context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Mathematical cal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ampl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C34F-4393-4EC0-B915-BC4C80A097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8108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lf-selected study is a source of bias in which factor of statistical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Source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Context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Mathematical cal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ampl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440" y="5227560"/>
            <a:ext cx="4251240" cy="774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39FD-6AA7-49C9-B1A2-553A56D2F6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8650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enders of actors and act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lors of the rain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umer ratings of a particular automobile (below average, average, and above avera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A012-D1C1-444C-9F0A-21AD6A7D30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8650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Genders of actors and act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Colors of the rain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Consumer ratings of a particular automobile (below average, average, and above avera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9800" y="1828800"/>
            <a:ext cx="7226280" cy="12193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70DB-8EBF-4A70-AB48-FD57360E05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35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emperature on a thermo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ean weight of 100 flour s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mount of water pumped from a pond p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A7D8-26F1-48BE-8A44-0A76FB349B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35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Temperature on a thermo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Mean weight of 100 flour s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Amount of water pumped from a pond p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9800" y="2590920"/>
            <a:ext cx="8369280" cy="12189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6A29-EB89-4550-8C55-A711520EA6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Marty Triola</dc:creator>
  <dc:description/>
  <dc:language>en-US</dc:language>
  <cp:lastModifiedBy>ustavch</cp:lastModifiedBy>
  <cp:lastPrinted>2006-04-03T17:26:19Z</cp:lastPrinted>
  <dcterms:modified xsi:type="dcterms:W3CDTF">2009-04-16T17:49:28Z</dcterms:modified>
  <cp:revision>147</cp:revision>
  <dc:subject>Introduction to Statistics</dc:subject>
  <dc:title>Chapter 1</dc:title>
</cp:coreProperties>
</file>